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3A7-8AFF-494F-9813-16E2584F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AAF-B0CF-4B61-B358-D5BDF7BB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423-2F06-4703-8D47-C76D4BE1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CED-1640-4E74-AE45-4E0892BD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A33-F63B-4F10-A3BD-46E8F435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C44-1215-4A80-8701-4EADE732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8E1-9418-47A5-A636-95678B40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180-FF93-432B-8E78-103B0548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15D-C386-4046-85A3-99840287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037-8369-471D-99F0-A0FF8E8F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50A-8662-47A6-97B2-52F33B5F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C54-9900-4D83-BE79-DB49C554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AC7A-6003-48FA-A529-C1A2B7D686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nd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A Fraction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otball players below make up a red and a blue team .How many are in each team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295280" y="1295280"/>
            <a:ext cx="5486400" cy="2133720"/>
            <a:chOff x="1295280" y="1295280"/>
            <a:chExt cx="5486400" cy="213372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4800600" y="2133720"/>
              <a:ext cx="83808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514600" y="205740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3733920" y="129528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3733920" y="205740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5181480" y="1295280"/>
              <a:ext cx="8384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5943600" y="220968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7"/>
            <a:stretch/>
          </p:blipFill>
          <p:spPr>
            <a:xfrm>
              <a:off x="1295280" y="2666880"/>
              <a:ext cx="83844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8"/>
            <a:stretch/>
          </p:blipFill>
          <p:spPr>
            <a:xfrm>
              <a:off x="4152960" y="2897280"/>
              <a:ext cx="83808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9"/>
            <a:stretch/>
          </p:blipFill>
          <p:spPr>
            <a:xfrm>
              <a:off x="2819520" y="2897280"/>
              <a:ext cx="83808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0"/>
            <a:stretch/>
          </p:blipFill>
          <p:spPr>
            <a:xfrm>
              <a:off x="2209680" y="1295280"/>
              <a:ext cx="838440" cy="53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380880" y="3733920"/>
            <a:ext cx="5410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players will be in each tea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66688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838080" y="5257800"/>
            <a:ext cx="838440" cy="531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38280" y="198108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7162920" y="495288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33720" y="1143000"/>
            <a:ext cx="990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3"/>
          <a:stretch/>
        </p:blipFill>
        <p:spPr>
          <a:xfrm>
            <a:off x="1828800" y="5562720"/>
            <a:ext cx="838080" cy="531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81280" y="114300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6400800" y="5562720"/>
            <a:ext cx="838080" cy="533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66880" y="2819520"/>
            <a:ext cx="9907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5"/>
          <a:stretch/>
        </p:blipFill>
        <p:spPr>
          <a:xfrm>
            <a:off x="2514600" y="4876920"/>
            <a:ext cx="838080" cy="531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81280" y="198108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6"/>
          <a:stretch/>
        </p:blipFill>
        <p:spPr>
          <a:xfrm>
            <a:off x="5334120" y="525780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76640" y="266688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7"/>
          <a:stretch/>
        </p:blipFill>
        <p:spPr>
          <a:xfrm>
            <a:off x="3276720" y="4419720"/>
            <a:ext cx="838080" cy="531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05520" y="1143000"/>
            <a:ext cx="990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8"/>
          <a:stretch/>
        </p:blipFill>
        <p:spPr>
          <a:xfrm>
            <a:off x="4572000" y="4648320"/>
            <a:ext cx="838080" cy="533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24280" y="198108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0" y="4724280"/>
            <a:ext cx="838080" cy="532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791320" y="2133720"/>
            <a:ext cx="99036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0"/>
          <a:stretch/>
        </p:blipFill>
        <p:spPr>
          <a:xfrm>
            <a:off x="7924680" y="4191120"/>
            <a:ext cx="838440" cy="533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66880" y="601992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players in each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380880"/>
            <a:ext cx="5715000" cy="1381680"/>
            <a:chOff x="228600" y="380880"/>
            <a:chExt cx="5715000" cy="1381680"/>
          </a:xfrm>
        </p:grpSpPr>
        <p:sp>
          <p:nvSpPr>
            <p:cNvPr id="77" name=""/>
            <p:cNvSpPr/>
            <p:nvPr/>
          </p:nvSpPr>
          <p:spPr>
            <a:xfrm>
              <a:off x="228600" y="380880"/>
              <a:ext cx="5715000" cy="1381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 find the number of players in each team we have to find      of 1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2286000" y="685800"/>
                  <a:ext cx="3254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"/>
          <p:cNvGrpSpPr/>
          <p:nvPr/>
        </p:nvGrpSpPr>
        <p:grpSpPr>
          <a:xfrm>
            <a:off x="4724280" y="914400"/>
            <a:ext cx="4114800" cy="3427560"/>
            <a:chOff x="4724280" y="914400"/>
            <a:chExt cx="4114800" cy="342756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6019920" y="2514600"/>
              <a:ext cx="83808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6781680" y="3162240"/>
              <a:ext cx="8384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4724280" y="2362320"/>
              <a:ext cx="83844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5029200" y="3162240"/>
              <a:ext cx="83808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6019920" y="3809880"/>
              <a:ext cx="83808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6324480" y="1676520"/>
              <a:ext cx="83844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7"/>
            <a:stretch/>
          </p:blipFill>
          <p:spPr>
            <a:xfrm>
              <a:off x="7086600" y="2362320"/>
              <a:ext cx="8380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8"/>
            <a:stretch/>
          </p:blipFill>
          <p:spPr>
            <a:xfrm>
              <a:off x="7315200" y="152388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9"/>
            <a:stretch/>
          </p:blipFill>
          <p:spPr>
            <a:xfrm>
              <a:off x="7010280" y="914400"/>
              <a:ext cx="8384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0"/>
            <a:stretch/>
          </p:blipFill>
          <p:spPr>
            <a:xfrm>
              <a:off x="8001000" y="2895480"/>
              <a:ext cx="8380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228600" y="2286000"/>
            <a:ext cx="3733920" cy="88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10 simply divide 10 by 2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3657600"/>
            <a:ext cx="1295640" cy="88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733920"/>
            <a:ext cx="609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4648320"/>
            <a:ext cx="510552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a half of a number divide by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266760" y="228600"/>
            <a:ext cx="8610480" cy="1572120"/>
            <a:chOff x="266760" y="228600"/>
            <a:chExt cx="8610480" cy="1572120"/>
          </a:xfrm>
        </p:grpSpPr>
        <p:sp>
          <p:nvSpPr>
            <p:cNvPr id="95" name=""/>
            <p:cNvSpPr/>
            <p:nvPr/>
          </p:nvSpPr>
          <p:spPr>
            <a:xfrm>
              <a:off x="266760" y="228600"/>
              <a:ext cx="8610480" cy="1572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       of  the shapes below into placed in  each box, how man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hapes go in each box?         Use the colours to help you…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914400" y="228600"/>
                  <a:ext cx="3254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" name=""/>
          <p:cNvSpPr/>
          <p:nvPr/>
        </p:nvSpPr>
        <p:spPr>
          <a:xfrm>
            <a:off x="533520" y="20574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05740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213372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74320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25909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66688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205740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213372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4290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342900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2971800"/>
            <a:ext cx="38124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34290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4419720"/>
            <a:ext cx="1905120" cy="1983600"/>
            <a:chOff x="457200" y="4419720"/>
            <a:chExt cx="1905120" cy="1983600"/>
          </a:xfrm>
        </p:grpSpPr>
        <p:sp>
          <p:nvSpPr>
            <p:cNvPr id="110" name=""/>
            <p:cNvSpPr/>
            <p:nvPr/>
          </p:nvSpPr>
          <p:spPr>
            <a:xfrm>
              <a:off x="457200" y="4419720"/>
              <a:ext cx="1905120" cy="137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120" y="5943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x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200400" y="4419720"/>
            <a:ext cx="1905120" cy="1983600"/>
            <a:chOff x="3200400" y="4419720"/>
            <a:chExt cx="1905120" cy="1983600"/>
          </a:xfrm>
        </p:grpSpPr>
        <p:sp>
          <p:nvSpPr>
            <p:cNvPr id="113" name=""/>
            <p:cNvSpPr/>
            <p:nvPr/>
          </p:nvSpPr>
          <p:spPr>
            <a:xfrm>
              <a:off x="3200400" y="4419720"/>
              <a:ext cx="1905120" cy="137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5320" y="5943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x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638680" y="4419720"/>
            <a:ext cx="1905120" cy="1907280"/>
            <a:chOff x="5638680" y="4419720"/>
            <a:chExt cx="1905120" cy="1907280"/>
          </a:xfrm>
        </p:grpSpPr>
        <p:sp>
          <p:nvSpPr>
            <p:cNvPr id="116" name=""/>
            <p:cNvSpPr/>
            <p:nvPr/>
          </p:nvSpPr>
          <p:spPr>
            <a:xfrm>
              <a:off x="5638680" y="4419720"/>
              <a:ext cx="1905120" cy="137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3600" y="58672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x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57200" y="1981080"/>
            <a:ext cx="5335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5720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981080"/>
            <a:ext cx="5331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449568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205740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449568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205740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45720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51460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4956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05740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449568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342900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45720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2666880"/>
            <a:ext cx="5335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81560" y="44956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2819520"/>
            <a:ext cx="5331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449568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342900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18148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3429000"/>
            <a:ext cx="5331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502920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59092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502920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228600"/>
            <a:ext cx="8915400" cy="825480"/>
            <a:chOff x="0" y="228600"/>
            <a:chExt cx="8915400" cy="825480"/>
          </a:xfrm>
        </p:grpSpPr>
        <p:sp>
          <p:nvSpPr>
            <p:cNvPr id="143" name=""/>
            <p:cNvSpPr/>
            <p:nvPr/>
          </p:nvSpPr>
          <p:spPr>
            <a:xfrm>
              <a:off x="0" y="228600"/>
              <a:ext cx="8915400" cy="8254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n the last question there were 12 circles and      of the circles was 4 circl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5562720" y="228600"/>
                  <a:ext cx="2952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5" name=""/>
          <p:cNvGrpSpPr/>
          <p:nvPr/>
        </p:nvGrpSpPr>
        <p:grpSpPr>
          <a:xfrm>
            <a:off x="152280" y="1371600"/>
            <a:ext cx="6096240" cy="1572120"/>
            <a:chOff x="152280" y="1371600"/>
            <a:chExt cx="6096240" cy="1572120"/>
          </a:xfrm>
        </p:grpSpPr>
        <p:sp>
          <p:nvSpPr>
            <p:cNvPr id="146" name=""/>
            <p:cNvSpPr/>
            <p:nvPr/>
          </p:nvSpPr>
          <p:spPr>
            <a:xfrm>
              <a:off x="152280" y="1371600"/>
              <a:ext cx="6096240" cy="1572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 calculate a       of a number we divide by 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2057400" y="1828800"/>
                  <a:ext cx="3240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/>
          <p:cNvSpPr/>
          <p:nvPr/>
        </p:nvSpPr>
        <p:spPr>
          <a:xfrm>
            <a:off x="152280" y="3429000"/>
            <a:ext cx="1371600" cy="88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429000"/>
            <a:ext cx="609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4267080"/>
            <a:ext cx="6477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: To find 1/3 of a number divide by thre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0292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495288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495288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0292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49528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495288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502920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81560" y="49528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495288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638680"/>
            <a:ext cx="38088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548640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5486400"/>
            <a:ext cx="38088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80880" y="152280"/>
            <a:ext cx="6019920" cy="838440"/>
            <a:chOff x="380880" y="152280"/>
            <a:chExt cx="6019920" cy="838440"/>
          </a:xfrm>
        </p:grpSpPr>
        <p:sp>
          <p:nvSpPr>
            <p:cNvPr id="164" name=""/>
            <p:cNvSpPr/>
            <p:nvPr/>
          </p:nvSpPr>
          <p:spPr>
            <a:xfrm>
              <a:off x="380880" y="228600"/>
              <a:ext cx="38124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609480"/>
              <a:ext cx="38124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9320" y="22860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00200" y="60948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57400" y="22860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4600" y="60948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1800" y="22860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68580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57600" y="22860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2520" y="60948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81560" y="15228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533520"/>
              <a:ext cx="380880" cy="304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57800" y="22860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38680" y="609480"/>
              <a:ext cx="38124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19920" y="228600"/>
              <a:ext cx="38088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0" y="1600200"/>
            <a:ext cx="8763120" cy="8254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 numbers of the counters above have to be placed in 5 boxes. How many would go in each box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3200400"/>
            <a:ext cx="8458200" cy="838080"/>
            <a:chOff x="304920" y="3200400"/>
            <a:chExt cx="8458200" cy="838080"/>
          </a:xfrm>
        </p:grpSpPr>
        <p:sp>
          <p:nvSpPr>
            <p:cNvPr id="181" name=""/>
            <p:cNvSpPr/>
            <p:nvPr/>
          </p:nvSpPr>
          <p:spPr>
            <a:xfrm>
              <a:off x="304920" y="3200400"/>
              <a:ext cx="144756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720" y="3200400"/>
              <a:ext cx="144756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38480" y="3200400"/>
              <a:ext cx="14479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5000" y="3200400"/>
              <a:ext cx="14479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15200" y="3200400"/>
              <a:ext cx="14479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80880" y="2286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3276720"/>
            <a:ext cx="38124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5335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3276720"/>
            <a:ext cx="38124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1522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3276720"/>
            <a:ext cx="38088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5335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3276720"/>
            <a:ext cx="38088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2286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276720"/>
            <a:ext cx="38124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5335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3276720"/>
            <a:ext cx="38088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2286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3276720"/>
            <a:ext cx="38124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685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3276720"/>
            <a:ext cx="38088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2286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276720"/>
            <a:ext cx="38124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6094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1000" y="3276720"/>
            <a:ext cx="38088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1522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3657600"/>
            <a:ext cx="38124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335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657600"/>
            <a:ext cx="3808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1522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3657600"/>
            <a:ext cx="3808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6094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3581280"/>
            <a:ext cx="3808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2286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3657600"/>
            <a:ext cx="3808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04920" y="4572000"/>
            <a:ext cx="8534160" cy="1015920"/>
            <a:chOff x="304920" y="4572000"/>
            <a:chExt cx="8534160" cy="1015920"/>
          </a:xfrm>
        </p:grpSpPr>
        <p:sp>
          <p:nvSpPr>
            <p:cNvPr id="217" name=""/>
            <p:cNvSpPr/>
            <p:nvPr/>
          </p:nvSpPr>
          <p:spPr>
            <a:xfrm>
              <a:off x="304920" y="4572000"/>
              <a:ext cx="8534160" cy="1015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re were 15 counters and  5 boxes. The problem was to calcul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          of  15 .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914400" y="4952880"/>
                  <a:ext cx="2350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9" name=""/>
          <p:cNvSpPr/>
          <p:nvPr/>
        </p:nvSpPr>
        <p:spPr>
          <a:xfrm>
            <a:off x="380880" y="5867280"/>
            <a:ext cx="13716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5943600"/>
            <a:ext cx="609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5867280"/>
            <a:ext cx="48006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hree counters in each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467160" y="304920"/>
            <a:ext cx="220968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x &amp; M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680" y="1066680"/>
            <a:ext cx="80010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have to divide by to find each of these fraction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09480" y="1676520"/>
            <a:ext cx="577800" cy="4495680"/>
            <a:chOff x="609480" y="1676520"/>
            <a:chExt cx="577800" cy="449568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609480" y="1676520"/>
                  <a:ext cx="44316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685800" y="3035160"/>
                  <a:ext cx="358920" cy="92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685800" y="4191120"/>
                  <a:ext cx="5014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762120" y="5257800"/>
                  <a:ext cx="3538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4800600" y="1828800"/>
            <a:ext cx="1295280" cy="4315320"/>
            <a:chOff x="4800600" y="1828800"/>
            <a:chExt cx="1295280" cy="4315320"/>
          </a:xfrm>
        </p:grpSpPr>
        <p:sp>
          <p:nvSpPr>
            <p:cNvPr id="230" name=""/>
            <p:cNvSpPr/>
            <p:nvPr/>
          </p:nvSpPr>
          <p:spPr>
            <a:xfrm>
              <a:off x="4800600" y="1828800"/>
              <a:ext cx="1219320" cy="88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by 1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00600" y="3124080"/>
              <a:ext cx="1219320" cy="88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by 6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76920" y="5257800"/>
              <a:ext cx="1218960" cy="88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by 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0600" y="4114800"/>
              <a:ext cx="1219320" cy="88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by 7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19320" y="2133720"/>
            <a:ext cx="3352680" cy="3352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3429000"/>
            <a:ext cx="335268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371600" y="2285640"/>
            <a:ext cx="3200400" cy="2438280"/>
          </a:xfrm>
          <a:prstGeom prst="line">
            <a:avLst/>
          </a:prstGeom>
          <a:ln w="381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219320" y="3657240"/>
            <a:ext cx="335268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553080" y="4876920"/>
            <a:ext cx="762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raction Calcula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371600"/>
            <a:ext cx="1524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1981080"/>
            <a:ext cx="3048120" cy="762120"/>
            <a:chOff x="0" y="1981080"/>
            <a:chExt cx="3048120" cy="762120"/>
          </a:xfrm>
        </p:grpSpPr>
        <p:sp>
          <p:nvSpPr>
            <p:cNvPr id="242" name=""/>
            <p:cNvSpPr/>
            <p:nvPr/>
          </p:nvSpPr>
          <p:spPr>
            <a:xfrm>
              <a:off x="0" y="2057400"/>
              <a:ext cx="304812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)    of  20 peo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457200" y="1981080"/>
                  <a:ext cx="2952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4" name=""/>
          <p:cNvSpPr/>
          <p:nvPr/>
        </p:nvSpPr>
        <p:spPr>
          <a:xfrm>
            <a:off x="0" y="2909880"/>
            <a:ext cx="1447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4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2971800"/>
            <a:ext cx="609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4038480"/>
            <a:ext cx="2514600" cy="762120"/>
            <a:chOff x="0" y="4038480"/>
            <a:chExt cx="2514600" cy="762120"/>
          </a:xfrm>
        </p:grpSpPr>
        <p:sp>
          <p:nvSpPr>
            <p:cNvPr id="247" name=""/>
            <p:cNvSpPr/>
            <p:nvPr/>
          </p:nvSpPr>
          <p:spPr>
            <a:xfrm>
              <a:off x="0" y="4114800"/>
              <a:ext cx="251460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)    of  £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457200" y="4038480"/>
                  <a:ext cx="2952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9" name=""/>
          <p:cNvSpPr/>
          <p:nvPr/>
        </p:nvSpPr>
        <p:spPr>
          <a:xfrm>
            <a:off x="0" y="5257800"/>
            <a:ext cx="1295280" cy="88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5334120"/>
            <a:ext cx="609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£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286000" y="4724280"/>
            <a:ext cx="1574640" cy="166212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4724280" y="1905120"/>
            <a:ext cx="2743200" cy="761760"/>
            <a:chOff x="4724280" y="1905120"/>
            <a:chExt cx="2743200" cy="761760"/>
          </a:xfrm>
        </p:grpSpPr>
        <p:sp>
          <p:nvSpPr>
            <p:cNvPr id="253" name=""/>
            <p:cNvSpPr/>
            <p:nvPr/>
          </p:nvSpPr>
          <p:spPr>
            <a:xfrm>
              <a:off x="4724280" y="1981080"/>
              <a:ext cx="274320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)     of  270 ca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5181480" y="1905120"/>
                  <a:ext cx="2955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162920" y="2895480"/>
            <a:ext cx="1601640" cy="433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800600" y="3048120"/>
            <a:ext cx="1447920" cy="88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3048120"/>
            <a:ext cx="685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572000" y="4114800"/>
            <a:ext cx="3429000" cy="609480"/>
            <a:chOff x="4572000" y="4114800"/>
            <a:chExt cx="3429000" cy="609480"/>
          </a:xfrm>
        </p:grpSpPr>
        <p:sp>
          <p:nvSpPr>
            <p:cNvPr id="259" name=""/>
            <p:cNvSpPr/>
            <p:nvPr/>
          </p:nvSpPr>
          <p:spPr>
            <a:xfrm>
              <a:off x="4572000" y="4191120"/>
              <a:ext cx="342900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)      of  2700 childre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5029200" y="4114800"/>
                  <a:ext cx="3348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1" name=""/>
          <p:cNvGrpSpPr/>
          <p:nvPr/>
        </p:nvGrpSpPr>
        <p:grpSpPr>
          <a:xfrm>
            <a:off x="6095880" y="5257800"/>
            <a:ext cx="2438640" cy="1450440"/>
            <a:chOff x="6095880" y="5257800"/>
            <a:chExt cx="2438640" cy="1450440"/>
          </a:xfrm>
        </p:grpSpPr>
        <p:pic>
          <p:nvPicPr>
            <p:cNvPr id="262" name="" descr=""/>
            <p:cNvPicPr/>
            <p:nvPr/>
          </p:nvPicPr>
          <p:blipFill>
            <a:blip r:embed="rId3"/>
            <a:stretch/>
          </p:blipFill>
          <p:spPr>
            <a:xfrm>
              <a:off x="6629400" y="5257800"/>
              <a:ext cx="19051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095880" y="6248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572000" y="4876920"/>
            <a:ext cx="1752480" cy="88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0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20000" y="33577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51640" y="63817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6237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Microsoft clip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oes In The Box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523880"/>
            <a:ext cx="1523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0" y="2286000"/>
            <a:ext cx="1828800" cy="685800"/>
            <a:chOff x="0" y="2286000"/>
            <a:chExt cx="1828800" cy="685800"/>
          </a:xfrm>
        </p:grpSpPr>
        <p:sp>
          <p:nvSpPr>
            <p:cNvPr id="271" name=""/>
            <p:cNvSpPr/>
            <p:nvPr/>
          </p:nvSpPr>
          <p:spPr>
            <a:xfrm>
              <a:off x="0" y="2362320"/>
              <a:ext cx="182880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1)     of  4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457200" y="2286000"/>
                  <a:ext cx="2649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3" name=""/>
          <p:cNvGrpSpPr/>
          <p:nvPr/>
        </p:nvGrpSpPr>
        <p:grpSpPr>
          <a:xfrm>
            <a:off x="0" y="3657600"/>
            <a:ext cx="1828800" cy="685800"/>
            <a:chOff x="0" y="3657600"/>
            <a:chExt cx="1828800" cy="685800"/>
          </a:xfrm>
        </p:grpSpPr>
        <p:sp>
          <p:nvSpPr>
            <p:cNvPr id="274" name=""/>
            <p:cNvSpPr/>
            <p:nvPr/>
          </p:nvSpPr>
          <p:spPr>
            <a:xfrm>
              <a:off x="0" y="3809880"/>
              <a:ext cx="182880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)     of  88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533520" y="3657600"/>
                  <a:ext cx="2649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6" name=""/>
          <p:cNvGrpSpPr/>
          <p:nvPr/>
        </p:nvGrpSpPr>
        <p:grpSpPr>
          <a:xfrm>
            <a:off x="0" y="5181480"/>
            <a:ext cx="1981080" cy="806400"/>
            <a:chOff x="0" y="5181480"/>
            <a:chExt cx="1981080" cy="806400"/>
          </a:xfrm>
        </p:grpSpPr>
        <p:sp>
          <p:nvSpPr>
            <p:cNvPr id="277" name=""/>
            <p:cNvSpPr/>
            <p:nvPr/>
          </p:nvSpPr>
          <p:spPr>
            <a:xfrm>
              <a:off x="0" y="5334120"/>
              <a:ext cx="198108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)     of  1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457200" y="5181480"/>
                  <a:ext cx="31284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"/>
          <p:cNvGrpSpPr/>
          <p:nvPr/>
        </p:nvGrpSpPr>
        <p:grpSpPr>
          <a:xfrm>
            <a:off x="4800600" y="2133720"/>
            <a:ext cx="2286000" cy="730080"/>
            <a:chOff x="4800600" y="2133720"/>
            <a:chExt cx="2286000" cy="730080"/>
          </a:xfrm>
        </p:grpSpPr>
        <p:sp>
          <p:nvSpPr>
            <p:cNvPr id="280" name=""/>
            <p:cNvSpPr/>
            <p:nvPr/>
          </p:nvSpPr>
          <p:spPr>
            <a:xfrm>
              <a:off x="4800600" y="2209680"/>
              <a:ext cx="228600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)    of  5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5257800" y="2133720"/>
                  <a:ext cx="28260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4800600" y="3657600"/>
            <a:ext cx="2514600" cy="762120"/>
            <a:chOff x="4800600" y="3657600"/>
            <a:chExt cx="2514600" cy="762120"/>
          </a:xfrm>
        </p:grpSpPr>
        <p:sp>
          <p:nvSpPr>
            <p:cNvPr id="283" name=""/>
            <p:cNvSpPr/>
            <p:nvPr/>
          </p:nvSpPr>
          <p:spPr>
            <a:xfrm>
              <a:off x="4800600" y="3809880"/>
              <a:ext cx="251460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5)    of 74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257800" y="3657600"/>
                  <a:ext cx="2952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"/>
          <p:cNvGrpSpPr/>
          <p:nvPr/>
        </p:nvGrpSpPr>
        <p:grpSpPr>
          <a:xfrm>
            <a:off x="4800600" y="5257800"/>
            <a:ext cx="2133720" cy="685800"/>
            <a:chOff x="4800600" y="5257800"/>
            <a:chExt cx="2133720" cy="685800"/>
          </a:xfrm>
        </p:grpSpPr>
        <p:sp>
          <p:nvSpPr>
            <p:cNvPr id="286" name=""/>
            <p:cNvSpPr/>
            <p:nvPr/>
          </p:nvSpPr>
          <p:spPr>
            <a:xfrm>
              <a:off x="4800600" y="5334120"/>
              <a:ext cx="2133720" cy="4597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6)     of  10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5334120" y="5257800"/>
                  <a:ext cx="2253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8" name=""/>
          <p:cNvSpPr/>
          <p:nvPr/>
        </p:nvSpPr>
        <p:spPr>
          <a:xfrm>
            <a:off x="1981080" y="2743200"/>
            <a:ext cx="129564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7400" y="4343400"/>
            <a:ext cx="12952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5791320"/>
            <a:ext cx="12952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2743200"/>
            <a:ext cx="129564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4343400"/>
            <a:ext cx="12952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38880" y="5791320"/>
            <a:ext cx="129564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574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09680" y="5943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915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674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1520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6:14:07Z</dcterms:created>
  <dc:creator>LT Scotland</dc:creator>
  <dc:description/>
  <dc:language>en-US</dc:language>
  <cp:lastModifiedBy>LTS</cp:lastModifiedBy>
  <dcterms:modified xsi:type="dcterms:W3CDTF">2004-11-28T13:43:09Z</dcterms:modified>
  <cp:revision>34</cp:revision>
  <dc:subject/>
  <dc:title>Access 3 Mathematics: Unit 1 Outcome 1 - Finding A Fraction…..</dc:title>
</cp:coreProperties>
</file>